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92B8-1980-4494-9932-F54039E2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89D-DD61-418B-9D30-198DBD72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79E-4E30-47B7-B3C9-BD0A09F4B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FA32-8EDC-4D42-A5B4-600AEF5B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6C2-D484-4C60-9930-A7CB0A38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E6F-6287-4D25-852F-99A3F626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2F1E-3761-47B0-B26C-BEC94438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302-67D6-4B8E-BE21-0623C7DC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072-F546-4637-9BF5-9B5C0012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AC6-5567-469A-B42D-CF237D46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B488-9DC4-4171-B243-7A752DF0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0D0-83BF-4D2A-A0F3-E5860EA1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285F-D1A4-4449-B7D3-7C440B334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0"/>
            <a:ext cx="708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716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Xp SP3 Relax Edition 2</cp:lastModifiedBy>
  <dcterms:modified xsi:type="dcterms:W3CDTF">2011-02-10T09:18:2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