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D65-1498-4D6A-9583-241CFD5C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FC0-A398-4FD5-A5D6-D03AD262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1347-962E-4163-810F-5CFDD58A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F88-8768-41F0-8AF6-34414CC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01BF-05D9-42B8-8C9F-C6DEA862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169-AA60-4D27-92E4-37FD0CA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4D21-EA08-49E2-AFDE-0E5AE10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478D-69F6-49DA-B030-73BE6C02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C588-F517-4447-9F02-19A5E9CE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F007-A5ED-4900-B58E-521B2361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CF83-3F6E-4788-A834-61DC06E1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D9A-C8AA-4D7F-AC9C-09CE9DA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6717-FDD2-41AC-820E-F27192DB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17E-40DE-4957-A7A2-8C45FD9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DB16-DAFC-4362-BF95-C6C05F4F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76C-628D-430F-A11B-6D48F42F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BBDC-13C4-4188-B960-6866CC9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715-F11E-46EC-A54A-698331E5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3C7-57DA-4C48-85F5-A9F6019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EED-05F2-47FC-82BD-D7DF805B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13D-DE42-4634-94EC-84F2AC0F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D13-72A0-44CE-8107-0CEBE83C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00F-D43A-4CA0-8733-F810828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413-ECC2-44A5-AC85-36FB017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24B2-4BF4-4AA7-86F0-17109274102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FB3B-430B-4FC8-B372-B11EA36BA1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7"/>
          <p:cNvSpPr/>
          <p:nvPr/>
        </p:nvSpPr>
        <p:spPr>
          <a:xfrm>
            <a:off x="34920" y="3378240"/>
            <a:ext cx="1368360" cy="459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ATIVO CAUS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611280" y="189000"/>
          <a:ext cx="7848360" cy="64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9000"/>
                    <a:ext cx="784836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Line 8"/>
          <p:cNvSpPr/>
          <p:nvPr/>
        </p:nvSpPr>
        <p:spPr>
          <a:xfrm flipH="1">
            <a:off x="1332000" y="350028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72360" y="4653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EEXPERIMENT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3789360"/>
            <a:ext cx="2160720" cy="64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9:36:15Z</dcterms:created>
  <dc:creator>..</dc:creator>
  <dc:description/>
  <dc:language>en-US</dc:language>
  <cp:lastModifiedBy>Windows Xp SP3 Relax Edition 2</cp:lastModifiedBy>
  <dcterms:modified xsi:type="dcterms:W3CDTF">2011-03-04T07:27:27Z</dcterms:modified>
  <cp:revision>408</cp:revision>
  <dc:subject/>
  <dc:title>Diapositiva 1</dc:title>
</cp:coreProperties>
</file>