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2DC-8669-4D1B-9AC5-0C0FB38D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6C5-9B1F-4031-9587-EA6B6163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178-B441-4EFE-82E9-093B13FE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B025-4989-4860-A3E8-258700A1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BCE-1663-4C3D-AF85-3C38375E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B0F-49DB-4D00-9696-372E311B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8D1-CEBD-4659-99A5-68582C7D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E6D8-347D-4EFE-A679-1DA55215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F32-82EE-45CE-996F-B5053EFE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F1A-8B23-4458-AC07-4B6CF244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A84-DFF3-4110-A5DD-CA816F8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DB6-F6A4-42BD-8214-59B9C3B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AF92-22FC-47BB-A454-4E6765FEF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0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0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19120"/>
            <a:ext cx="91440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7:06:17Z</dcterms:created>
  <dc:creator>Windows Xp SP3 Relax Edition 2</dc:creator>
  <dc:description/>
  <dc:language>en-US</dc:language>
  <cp:lastModifiedBy>Windows Xp SP3 Relax Edition 2</cp:lastModifiedBy>
  <dcterms:modified xsi:type="dcterms:W3CDTF">2011-02-13T17:16:54Z</dcterms:modified>
  <cp:revision>2</cp:revision>
  <dc:subject/>
  <dc:title>Diapositiva 1</dc:title>
</cp:coreProperties>
</file>