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76DF-43BB-4457-83A8-37494993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1A9F-7CEA-4B39-912E-F973287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3CC-6768-4EE8-AF8D-EC094A01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F09-8413-4C27-AC33-9AD247D6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081-AAF0-4BCF-AC41-673242C2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709-B251-40EE-94BC-688548B5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FE0-899E-4553-9669-43993A4C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655-2B6F-440F-A7DE-AC4C52E9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0C4-E691-49BB-AEA5-DA94CE7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6A8-41F5-4447-9553-C7FB389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6A0-E645-404B-B5F9-15F28DBF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387-A70B-4B48-A50B-3468270A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78B7-8435-480D-8191-2DADAFF5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965160"/>
            <a:ext cx="5761080" cy="4408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2281320" y="793800"/>
            <a:ext cx="17272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67120" y="1828800"/>
            <a:ext cx="403200" cy="822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6040" y="2421000"/>
            <a:ext cx="403200" cy="2142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03400" y="404640"/>
            <a:ext cx="9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765000"/>
            <a:ext cx="66348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16480" y="917640"/>
            <a:ext cx="5032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10440" y="925560"/>
            <a:ext cx="5032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835280" y="333360"/>
                <a:ext cx="4172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alignl</m:t>
                    </m:r>
                    <m:sSub>
                      <m:e>
                        <m:eqArr>
                          <m:e>
                            <m:r>
                              <m:t xml:space="preserve">i</m:t>
                            </m:r>
                          </m:e>
                        </m:eqAr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827440" y="252360"/>
                <a:ext cx="4492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60880" y="404640"/>
                <a:ext cx="4492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alignl</m:t>
                    </m:r>
                    <m:sSub>
                      <m:e>
                        <m:eqArr>
                          <m:e>
                            <m:r>
                              <m:t xml:space="preserve">i</m:t>
                            </m:r>
                          </m:e>
                        </m:eqAr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068880" y="404640"/>
                <a:ext cx="48132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alignl</m:t>
                    </m:r>
                    <m:sSub>
                      <m:e>
                        <m:eqArr>
                          <m:e>
                            <m:r>
                              <m:t xml:space="preserve">a</m:t>
                            </m:r>
                          </m:e>
                        </m:eqAr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5784840" y="1844640"/>
            <a:ext cx="403200" cy="8222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84720" y="90792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965160"/>
            <a:ext cx="5761080" cy="4408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97520" y="2900520"/>
            <a:ext cx="403560" cy="212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86160" y="1800360"/>
            <a:ext cx="40320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387680"/>
            <a:ext cx="403200" cy="21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7760" y="2014560"/>
            <a:ext cx="403200" cy="21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7760" y="4630680"/>
            <a:ext cx="403200" cy="21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017800"/>
            <a:ext cx="403200" cy="212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3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ía interactiva.sav (variables edad e ítem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92360" y="3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ía interactiva.sav (variable titulación curs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034640"/>
            <a:ext cx="871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agrama de barra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consiste en indicar por medio de un rectángulo las frecuencias correspondientes a cada modalidad o clase de modalidades de una variable medida en una escala nominal u ordinal. Las alturas de las barras son proporcionales a las frecuencias  alcanzadas, con independencia de que se trate de frecuencias absolutas o relativas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35800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gram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 un diagrama en forma de círculo que se encuentra dividido en tantos sectores circulares como modalidades presenta la variable. La amplitud de cada sector circular es proporcional a la frecuencia de la modalidad correspond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2360" y="3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ía interactiva.sav (variable e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838440"/>
            <a:ext cx="8713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istogram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 similar al gráfico de barras, pero la base de cada rectángulo coincide con los límites reales de los intervalos unitarios y el orden de presentación de las modalidades en el eje de abscisas no es arbitrario.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uede construirse para representar frecuencias absolutas o acumuladas y también porcentajes. Requiere que la variable esté medida, al menos, en escala de interva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92360" y="3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se.sav (variable ed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08036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ráfico de tallo y hoja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s una representación gráfica de los valores de una variable utilizando dos elementos -el tallo y las hojas- que se obtienen al separar los dígitos que constituyen cada puntu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2097000"/>
            <a:ext cx="7486920" cy="39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86160" y="2927520"/>
            <a:ext cx="40320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700360" y="1557000"/>
            <a:ext cx="50328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73400" y="2936880"/>
            <a:ext cx="509760" cy="204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419640" y="1557000"/>
            <a:ext cx="720720" cy="13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0:02:50Z</dcterms:created>
  <dc:creator>YOP</dc:creator>
  <dc:description/>
  <dc:language>en-US</dc:language>
  <cp:lastModifiedBy>Windows Xp SP3 Relax Edition 2</cp:lastModifiedBy>
  <dcterms:modified xsi:type="dcterms:W3CDTF">2011-02-13T18:12:57Z</dcterms:modified>
  <cp:revision>3</cp:revision>
  <dc:subject/>
  <dc:title>Diapositiva 1</dc:title>
</cp:coreProperties>
</file>