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685-B2D1-43EE-8765-7155D177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A18-E06E-476B-9744-100B257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B83-CCF4-4A6A-B865-6BBD188A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6F9-31EF-4FB3-845B-2CFA86C6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844-2B02-42A6-AEF9-CB10450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7A2-52B2-48C5-BF82-91C40BD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586-11DC-4095-B369-04D7B54A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121A-A4BE-4779-9DB2-9BFE51F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D2F-A6FE-40A8-B1C7-7AAC3E22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A8E-3728-451D-92DA-2B297783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64E-5848-4A93-A5CA-652E9E0A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0E67-2ADE-4B60-92DA-90C7B34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ABCC-4219-43F5-8EB3-D8B8C21E3D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79280" y="7632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d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 el valor obtenido como suma de todas las puntuaciones de un grupo dividida por el número de ell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variables ordinales o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79280" y="164160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dian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 el valor que divide en dos partes iguales a un conjunto de puntuaciones ordenadas, de tal forma que la mitad de las puntuaciones son mayores que la mediana y la otra mitad son menores que ella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l número de casos es impar, la mediana es el valor que ocupa la posición central en la serie, en cambio si es par,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rá el punto medio entre los dos valores centr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79280" y="33321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d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 el valor o modalidad que más se repite en un conjunto de medidas. Es decir, que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 valor con frecuencia máxima es la moda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se diese el caso de que la frecuencia máxima se alcanza para dos o más valores, éstos constituyen modas. El grupo puede ser bimodal o multimodal. En el supuesto de que dos valores adyacentes alcanzasen la máxima frecuencia, la moda sería el promedio de amb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79280" y="180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EDIDAS DE TENDENCIA CENTR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ía interactiva.sav (variable e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9280" y="7632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percenti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on los 99 valores que dividen en cien partes iguales a una serie de puntuaciones ordenadas, de forma que el percentil Pm deja por debajo de sí el m por ciento de las puntuaciones del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79280" y="1863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deci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on los 9 valores que dividen en diez partes iguales a una serie de puntuaciones ordenadas, de forma que el decil Dm deja por debajo de sí a m décimas partes del total de puntuaciones del gru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29952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uarti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3 valores que dividen en cuatro partes iguales a una serie de puntuaciones ordenadas, de manera que el cuartil Qm deja por debajo de sí m cuartas partes del total de puntuaciones del grupo. Es decir, que el cuartil 1 es en realidad el percentil 25, el 2 el percentil 50 y el 3 el percentil 7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79280" y="435276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gráfico de caj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aquel en el que se reflejan las medidas de posición. Se construye trazando un rectángulo cuya longitud representa la amplitud intercuartílica (Q3 – Q1), dividido por una línea que representa la posición de la mediana. A éste se añaden dos líneas que se prolongan hasta los valores máximo y mínimo de la distribución, sin que éstos sobrepasen en ninguno de los dos casos una distancia equivalente a 1.5 veces la amplitud intercuartí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79280" y="180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MEDIDAS DE POSIC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se.sav (variable e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6" descr=""/>
          <p:cNvPicPr/>
          <p:nvPr/>
        </p:nvPicPr>
        <p:blipFill>
          <a:blip r:embed="rId1"/>
          <a:stretch/>
        </p:blipFill>
        <p:spPr>
          <a:xfrm>
            <a:off x="611280" y="414360"/>
            <a:ext cx="784836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79280" y="836640"/>
            <a:ext cx="87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99"/>
                </a:solidFill>
                <a:latin typeface="Arial"/>
              </a:rPr>
              <a:t>Rang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s la distancia total en la escala numérica a lo largo de la cual varían las puntuaciones. También se denomina amplitud total o recorrido. Se utilizan dos tipos de rang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Rango excluyente: diferencia entre la mayor y la menor de las puntu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Rango incluyente: diferencia entre la mayor y la menor de las puntuaciones incrementada en la unidad de medida. Este suele ser el más utiliz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ango = Punt.máxima –  Punt.mínima +  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9280" y="30301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varian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el promedio del cuadrado de las diferencias de todas las puntuaciones respecto a la media aritmética. En el ámbito de la estadística inferencial, se utiliza una expresión de la varianza obtenida recogiendo en el denominador el factor n-1. A esta varianza se le denomina varianza inses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44301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99"/>
                </a:solidFill>
                <a:latin typeface="Arial"/>
              </a:rPr>
              <a:t>Desviación típ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ríamos definirla como la raíz cuadrada de la varia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79280" y="180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99"/>
                </a:solidFill>
                <a:latin typeface="Arial"/>
              </a:rPr>
              <a:t>MEDIDAS DE DISPERSIÓ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ía interactiva.sav (variable ítem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79640" y="1084320"/>
          <a:ext cx="5207040" cy="2925720"/>
        </p:xfrm>
        <a:graphic>
          <a:graphicData uri="http://schemas.openxmlformats.org/drawingml/2006/table">
            <a:tbl>
              <a:tblPr/>
              <a:tblGrid>
                <a:gridCol w="1403280"/>
                <a:gridCol w="1098720"/>
                <a:gridCol w="1238040"/>
                <a:gridCol w="1467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erenc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Diferencias)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13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8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89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6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17"/>
          <p:cNvSpPr/>
          <p:nvPr/>
        </p:nvSpPr>
        <p:spPr>
          <a:xfrm>
            <a:off x="765720" y="188280"/>
            <a:ext cx="40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= Varianza (sesgada o insesg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8"/>
          <p:cNvSpPr/>
          <p:nvPr/>
        </p:nvSpPr>
        <p:spPr>
          <a:xfrm>
            <a:off x="5940360" y="4076640"/>
            <a:ext cx="280836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82,857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/ 6 (n-1) =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13,8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19"/>
          <p:cNvSpPr/>
          <p:nvPr/>
        </p:nvSpPr>
        <p:spPr>
          <a:xfrm>
            <a:off x="759600" y="479664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= Desviación típica (sesgada o insesgada)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5670720" y="4773600"/>
                <a:ext cx="846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221"/>
          <p:cNvSpPr/>
          <p:nvPr/>
        </p:nvSpPr>
        <p:spPr>
          <a:xfrm>
            <a:off x="6516720" y="4815000"/>
            <a:ext cx="10796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3,71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17:42:38Z</dcterms:created>
  <dc:creator>Windows Xp SP3 Relax Edition 2</dc:creator>
  <dc:description/>
  <dc:language>en-US</dc:language>
  <cp:lastModifiedBy>Usuario</cp:lastModifiedBy>
  <dcterms:modified xsi:type="dcterms:W3CDTF">2011-02-16T12:58:27Z</dcterms:modified>
  <cp:revision>6</cp:revision>
  <dc:subject/>
  <dc:title>Diapositiva 1</dc:title>
</cp:coreProperties>
</file>