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CF7F-B915-4667-98A7-57750E74B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BA31-5D10-4E8C-9DBD-D3BD6BD4C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985A-01D1-4BB4-8531-17881BCE5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ABC5-18C7-4441-91C1-1A5632C1D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029F-5907-4052-8279-CF141AEB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5694-3721-4898-BDDD-36BA8D2E9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526E-9415-42D8-9340-7C8F0F088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3742-DB72-48D1-9B4B-23F8D65D3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B2BF-459D-4272-BAC8-AAA165593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243C-99BC-4ED5-87B3-38A0E796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266C-51CD-41DF-B602-D7196CDF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C569-15CE-4CE9-B62D-07475C24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38772-6CD3-4B0D-9786-DAE922633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3"/>
          <p:cNvSpPr/>
          <p:nvPr/>
        </p:nvSpPr>
        <p:spPr>
          <a:xfrm>
            <a:off x="2158920" y="1268280"/>
            <a:ext cx="6775560" cy="417672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1f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179280" y="2781360"/>
            <a:ext cx="1801800" cy="82404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5c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REQUISITOS PARA R. CUS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9"/>
          <p:cNvSpPr/>
          <p:nvPr/>
        </p:nvSpPr>
        <p:spPr>
          <a:xfrm>
            <a:off x="3795840" y="1755720"/>
            <a:ext cx="3671640" cy="3384720"/>
          </a:xfrm>
          <a:prstGeom prst="ellipse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0"/>
          <p:cNvGrpSpPr/>
          <p:nvPr/>
        </p:nvGrpSpPr>
        <p:grpSpPr>
          <a:xfrm>
            <a:off x="4402080" y="1324080"/>
            <a:ext cx="2376360" cy="873000"/>
            <a:chOff x="4402080" y="1324080"/>
            <a:chExt cx="2376360" cy="873000"/>
          </a:xfrm>
        </p:grpSpPr>
        <p:sp>
          <p:nvSpPr>
            <p:cNvPr id="47" name="Oval 11"/>
            <p:cNvSpPr/>
            <p:nvPr/>
          </p:nvSpPr>
          <p:spPr>
            <a:xfrm>
              <a:off x="4402080" y="1324080"/>
              <a:ext cx="2376360" cy="87300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  <a:effectLst>
              <a:outerShdw dist="17819" dir="2700000" blurRad="0" rotWithShape="0">
                <a:srgbClr val="3d3d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 Box 12"/>
            <p:cNvSpPr/>
            <p:nvPr/>
          </p:nvSpPr>
          <p:spPr>
            <a:xfrm>
              <a:off x="4475160" y="1379520"/>
              <a:ext cx="2192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      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PETI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3"/>
          <p:cNvGrpSpPr/>
          <p:nvPr/>
        </p:nvGrpSpPr>
        <p:grpSpPr>
          <a:xfrm>
            <a:off x="2468520" y="2979720"/>
            <a:ext cx="2448000" cy="873000"/>
            <a:chOff x="2468520" y="2979720"/>
            <a:chExt cx="2448000" cy="873000"/>
          </a:xfrm>
        </p:grpSpPr>
        <p:sp>
          <p:nvSpPr>
            <p:cNvPr id="50" name="Oval 14"/>
            <p:cNvSpPr/>
            <p:nvPr/>
          </p:nvSpPr>
          <p:spPr>
            <a:xfrm>
              <a:off x="2498760" y="2979720"/>
              <a:ext cx="2376360" cy="87300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  <a:effectLst>
              <a:outerShdw dist="17819" dir="2700000" blurRad="0" rotWithShape="0">
                <a:srgbClr val="3d3d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15"/>
            <p:cNvSpPr/>
            <p:nvPr/>
          </p:nvSpPr>
          <p:spPr>
            <a:xfrm>
              <a:off x="2468520" y="3227040"/>
              <a:ext cx="2448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CORRELACIÓN ENTRE V.I / V.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6"/>
          <p:cNvGrpSpPr/>
          <p:nvPr/>
        </p:nvGrpSpPr>
        <p:grpSpPr>
          <a:xfrm>
            <a:off x="4356000" y="4483080"/>
            <a:ext cx="2376360" cy="905040"/>
            <a:chOff x="4356000" y="4483080"/>
            <a:chExt cx="2376360" cy="905040"/>
          </a:xfrm>
        </p:grpSpPr>
        <p:sp>
          <p:nvSpPr>
            <p:cNvPr id="53" name="Oval 17"/>
            <p:cNvSpPr/>
            <p:nvPr/>
          </p:nvSpPr>
          <p:spPr>
            <a:xfrm>
              <a:off x="4356000" y="4483080"/>
              <a:ext cx="2376360" cy="8733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  <a:effectLst>
              <a:outerShdw dist="17819" dir="2700000" blurRad="0" rotWithShape="0">
                <a:srgbClr val="3d3d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18"/>
            <p:cNvSpPr/>
            <p:nvPr/>
          </p:nvSpPr>
          <p:spPr>
            <a:xfrm>
              <a:off x="4429080" y="4564080"/>
              <a:ext cx="2192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STABILIDAD  ANTE OTRAS VARIAB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29"/>
          <p:cNvGrpSpPr/>
          <p:nvPr/>
        </p:nvGrpSpPr>
        <p:grpSpPr>
          <a:xfrm>
            <a:off x="6243480" y="2979720"/>
            <a:ext cx="2376720" cy="873000"/>
            <a:chOff x="6243480" y="2979720"/>
            <a:chExt cx="2376720" cy="873000"/>
          </a:xfrm>
        </p:grpSpPr>
        <p:sp>
          <p:nvSpPr>
            <p:cNvPr id="56" name="Oval 23"/>
            <p:cNvSpPr/>
            <p:nvPr/>
          </p:nvSpPr>
          <p:spPr>
            <a:xfrm>
              <a:off x="6243480" y="2979720"/>
              <a:ext cx="2376720" cy="87300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  <a:effectLst>
              <a:outerShdw dist="17819" dir="2700000" blurRad="0" rotWithShape="0">
                <a:srgbClr val="3d3d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24"/>
            <p:cNvSpPr/>
            <p:nvPr/>
          </p:nvSpPr>
          <p:spPr>
            <a:xfrm>
              <a:off x="6348240" y="3213000"/>
              <a:ext cx="2192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PROBAR QUE V.I ES ANTERIOR A V.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Text Box 28"/>
          <p:cNvSpPr/>
          <p:nvPr/>
        </p:nvSpPr>
        <p:spPr>
          <a:xfrm>
            <a:off x="2116080" y="4780080"/>
            <a:ext cx="230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FECTOS DE UNA 3ª QUE LAS RELACIO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0"/>
          <p:cNvSpPr/>
          <p:nvPr/>
        </p:nvSpPr>
        <p:spPr>
          <a:xfrm>
            <a:off x="6588000" y="47815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V.D. ES EL EFECTO  DE OTRA V.I. DISTIN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1"/>
          <p:cNvSpPr/>
          <p:nvPr/>
        </p:nvSpPr>
        <p:spPr>
          <a:xfrm>
            <a:off x="3708360" y="3860640"/>
            <a:ext cx="116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RITE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2"/>
          <p:cNvSpPr/>
          <p:nvPr/>
        </p:nvSpPr>
        <p:spPr>
          <a:xfrm>
            <a:off x="2195640" y="3860640"/>
            <a:ext cx="152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DICTO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08:45:34Z</dcterms:created>
  <dc:creator>Windows Xp SP3 Relax Edition 2</dc:creator>
  <dc:description/>
  <dc:language>en-US</dc:language>
  <cp:lastModifiedBy>Windows Xp SP3 Relax Edition 2</cp:lastModifiedBy>
  <dcterms:modified xsi:type="dcterms:W3CDTF">2011-02-22T08:46:23Z</dcterms:modified>
  <cp:revision>1</cp:revision>
  <dc:subject/>
  <dc:title>Diapositiva 1</dc:title>
</cp:coreProperties>
</file>