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2B2-DAA1-4ACE-BDA3-47321CBB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631-CD43-4689-98A3-6DE30F65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9FF-3671-499A-BACF-01CB6531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148-20CF-42A9-8D49-81916E76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F5C9-5D16-478A-AE9C-EA7BB098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1CA-E886-42F1-A945-088DD3F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8E1C-C0E5-46CD-8A99-AFA8A47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5F22-3226-4327-8678-548A6A2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C5A8-8BA1-4347-8816-96CA703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1EEF-EE4B-40FA-9F27-1B3652D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BA85-8698-4D89-8415-AFF3440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854-B9D4-477E-A7B8-9061A85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8180-8C16-4599-A764-66245639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B9A-25D3-499D-BBD5-312809C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BD0-3DDA-4405-AB43-3FD7A9E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62B6-2F83-4808-BFED-63A9B0EA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0667-83D8-4316-A753-D6FDD39C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DD8-A287-4DBD-91F7-909D81B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AFF-4B88-4BF0-A963-BDBBC8F9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D99-B8A0-4E12-AD83-05EF11FB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5AC-6A18-4ABF-97D5-09C60B6A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3E9-B352-468B-A30E-445C525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DD7-CD06-492D-B658-FAD8F40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524-F681-4717-B2C6-DED7030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C0A-AC50-406E-B458-3E9ABFC508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631-1FEB-41F6-B0DC-08F8EF35F9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56088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Black"/>
              </a:rPr>
              <a:t>VALIDEZ DE CONTENIDO</a:t>
            </a:r>
            <a:br>
              <a:rPr sz="3600"/>
            </a:br>
            <a:r>
              <a:rPr b="0" lang="es-ES_tradnl" sz="3600" spc="-1" strike="noStrike">
                <a:solidFill>
                  <a:srgbClr val="003300"/>
                </a:solidFill>
                <a:latin typeface="Arial Black"/>
              </a:rPr>
              <a:t>Procedimiento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finición del univer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observaciones admisible (“especificaciones del test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xper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dicho uni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icio de los expertos acerca del grado en que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tenid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l instrumento e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levante y representativ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dicho uni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procedimiento par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sumir los da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esultantes del emparejamiento de items y domin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622080"/>
            <a:ext cx="74674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Black"/>
              </a:rPr>
              <a:t>VALIDEZ DE CONTENIDO</a:t>
            </a:r>
            <a:br>
              <a:rPr sz="3600"/>
            </a:br>
            <a:r>
              <a:rPr b="0" lang="es-ES_tradnl" sz="3200" spc="-1" strike="noStrike">
                <a:solidFill>
                  <a:srgbClr val="003300"/>
                </a:solidFill>
                <a:latin typeface="Arial Black"/>
              </a:rPr>
              <a:t>Especificaciones del tes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Áreas de conteni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que se deben cub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bjetivos instrucciona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en los tests educativ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roces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que se evaluará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mportancia relati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os diferentes tópicos y proc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22080"/>
            <a:ext cx="74674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00"/>
                </a:solidFill>
                <a:latin typeface="Arial Black"/>
              </a:rPr>
              <a:t>VALIDEZ DE CONTENIDO</a:t>
            </a:r>
            <a:br>
              <a:rPr sz="3600"/>
            </a:br>
            <a:r>
              <a:rPr b="0" lang="es-ES_tradnl" sz="3200" spc="-1" strike="noStrike">
                <a:solidFill>
                  <a:srgbClr val="003300"/>
                </a:solidFill>
                <a:latin typeface="Arial Black"/>
              </a:rPr>
              <a:t>Valoración de juec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onderación de los objetiv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tegorías, dimens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jueces establecen el peso que pueden tener los distintos objetivos, categorí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parejamiento items-objetiv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sta de objetivos 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cha con el item // Lista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cot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 de Hambleton (1 a 5; mal ajuste- excel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07:27:44Z</dcterms:created>
  <dc:creator>eduardo</dc:creator>
  <dc:description/>
  <dc:language>en-US</dc:language>
  <cp:lastModifiedBy>eduardo</cp:lastModifiedBy>
  <dcterms:modified xsi:type="dcterms:W3CDTF">2000-04-12T09:13:24Z</dcterms:modified>
  <cp:revision>4</cp:revision>
  <dc:subject/>
  <dc:title>VALIDEZ DE CONTENIDO Procedimientos</dc:title>
</cp:coreProperties>
</file>