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03CD-1EE8-4D81-9048-CFB37F45F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D8C5-34CC-4E74-B202-3F7F83C9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A73E-7E6C-4CEE-9F34-3AC7478B7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3D7B-04B9-4FBF-BD11-DA1809445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F096-ED27-40E2-B2D0-22EE6DA67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E4A5-054F-477E-8493-89BAED29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BBAB-9EB4-45BB-864F-FEF9E493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098D-363E-4DD1-BE31-D0586EC7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AC85-CB09-4FA2-90B2-991472A0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6A12-389F-41BF-8635-36DF81D0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768D-C3E6-4299-A994-49D7FE3B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215E-90F1-42FB-B4C2-736C00D5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2A97-BA04-4B83-A197-BAAFF8E5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5156-4A86-4145-8189-E3022CC4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4BFA-A305-476A-A846-10E77B90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D026-F339-4276-BD90-848C7361F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DCE2-884F-490A-B3D5-38AE983D1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F812-58BE-48A3-AA65-6426549C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D69F-5C13-477F-8375-FB7B7411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2A99-EAC3-49F3-A302-F3247B43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D44C-C641-4DD9-BD72-6F4E3140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9B7F-0C35-4B86-82A1-E68A8719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646B-EC06-47FA-8853-2668826D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FAC6-5384-4836-9665-7D9E83C9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10EA-F7A4-4106-BDE7-CAC1C23CFFC5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52280" y="313920"/>
            <a:ext cx="847440" cy="6543360"/>
            <a:chOff x="152280" y="313920"/>
            <a:chExt cx="847440" cy="6543360"/>
          </a:xfrm>
        </p:grpSpPr>
        <p:sp>
          <p:nvSpPr>
            <p:cNvPr id="6" name="AutoShape 8"/>
            <p:cNvSpPr/>
            <p:nvPr/>
          </p:nvSpPr>
          <p:spPr>
            <a:xfrm flipH="1" rot="5400000">
              <a:off x="129960" y="3166200"/>
              <a:ext cx="894600" cy="844560"/>
            </a:xfrm>
            <a:prstGeom prst="parallelogram">
              <a:avLst>
                <a:gd name="adj" fmla="val 5609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29960" y="4108680"/>
              <a:ext cx="894600" cy="844560"/>
            </a:xfrm>
            <a:prstGeom prst="parallelogram">
              <a:avLst>
                <a:gd name="adj" fmla="val 5609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flipH="1" rot="5400000">
              <a:off x="127440" y="5047920"/>
              <a:ext cx="894600" cy="844920"/>
            </a:xfrm>
            <a:prstGeom prst="parallelogram">
              <a:avLst>
                <a:gd name="adj" fmla="val 5606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AutoShape 11"/>
            <p:cNvSpPr/>
            <p:nvPr/>
          </p:nvSpPr>
          <p:spPr>
            <a:xfrm flipH="1" rot="5400000">
              <a:off x="131760" y="5992200"/>
              <a:ext cx="885240" cy="844560"/>
            </a:xfrm>
            <a:prstGeom prst="parallelogram">
              <a:avLst>
                <a:gd name="adj" fmla="val 5550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AutoShape 12"/>
            <p:cNvSpPr/>
            <p:nvPr/>
          </p:nvSpPr>
          <p:spPr>
            <a:xfrm flipH="1" rot="5400000">
              <a:off x="129960" y="338760"/>
              <a:ext cx="894600" cy="844560"/>
            </a:xfrm>
            <a:prstGeom prst="parallelogram">
              <a:avLst>
                <a:gd name="adj" fmla="val 5609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 rot="5400000">
              <a:off x="127440" y="1274760"/>
              <a:ext cx="894600" cy="844920"/>
            </a:xfrm>
            <a:prstGeom prst="parallelogram">
              <a:avLst>
                <a:gd name="adj" fmla="val 5606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AutoShape 14"/>
            <p:cNvSpPr/>
            <p:nvPr/>
          </p:nvSpPr>
          <p:spPr>
            <a:xfrm flipH="1" rot="5400000">
              <a:off x="127440" y="2220480"/>
              <a:ext cx="894600" cy="844920"/>
            </a:xfrm>
            <a:prstGeom prst="parallelogram">
              <a:avLst>
                <a:gd name="adj" fmla="val 5606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10"/>
          <p:cNvGrpSpPr/>
          <p:nvPr/>
        </p:nvGrpSpPr>
        <p:grpSpPr>
          <a:xfrm>
            <a:off x="152280" y="313920"/>
            <a:ext cx="847440" cy="6543360"/>
            <a:chOff x="152280" y="313920"/>
            <a:chExt cx="847440" cy="6543360"/>
          </a:xfrm>
        </p:grpSpPr>
        <p:sp>
          <p:nvSpPr>
            <p:cNvPr id="68" name="AutoShape 11"/>
            <p:cNvSpPr/>
            <p:nvPr/>
          </p:nvSpPr>
          <p:spPr>
            <a:xfrm flipH="1" rot="5400000">
              <a:off x="129960" y="3166200"/>
              <a:ext cx="894600" cy="844560"/>
            </a:xfrm>
            <a:prstGeom prst="parallelogram">
              <a:avLst>
                <a:gd name="adj" fmla="val 5609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12"/>
            <p:cNvSpPr/>
            <p:nvPr/>
          </p:nvSpPr>
          <p:spPr>
            <a:xfrm flipH="1" rot="5400000">
              <a:off x="129960" y="4108680"/>
              <a:ext cx="894600" cy="844560"/>
            </a:xfrm>
            <a:prstGeom prst="parallelogram">
              <a:avLst>
                <a:gd name="adj" fmla="val 5609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13"/>
            <p:cNvSpPr/>
            <p:nvPr/>
          </p:nvSpPr>
          <p:spPr>
            <a:xfrm flipH="1" rot="5400000">
              <a:off x="127440" y="5047920"/>
              <a:ext cx="894600" cy="844920"/>
            </a:xfrm>
            <a:prstGeom prst="parallelogram">
              <a:avLst>
                <a:gd name="adj" fmla="val 5606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14"/>
            <p:cNvSpPr/>
            <p:nvPr/>
          </p:nvSpPr>
          <p:spPr>
            <a:xfrm flipH="1" rot="5400000">
              <a:off x="131760" y="5992200"/>
              <a:ext cx="885240" cy="844560"/>
            </a:xfrm>
            <a:prstGeom prst="parallelogram">
              <a:avLst>
                <a:gd name="adj" fmla="val 5550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5"/>
            <p:cNvSpPr/>
            <p:nvPr/>
          </p:nvSpPr>
          <p:spPr>
            <a:xfrm flipH="1" rot="5400000">
              <a:off x="129960" y="338760"/>
              <a:ext cx="894600" cy="844560"/>
            </a:xfrm>
            <a:prstGeom prst="parallelogram">
              <a:avLst>
                <a:gd name="adj" fmla="val 5609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6"/>
            <p:cNvSpPr/>
            <p:nvPr/>
          </p:nvSpPr>
          <p:spPr>
            <a:xfrm flipH="1" rot="5400000">
              <a:off x="127440" y="1274760"/>
              <a:ext cx="894600" cy="844920"/>
            </a:xfrm>
            <a:prstGeom prst="parallelogram">
              <a:avLst>
                <a:gd name="adj" fmla="val 5606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7"/>
            <p:cNvSpPr/>
            <p:nvPr/>
          </p:nvSpPr>
          <p:spPr>
            <a:xfrm flipH="1" rot="5400000">
              <a:off x="127440" y="2220480"/>
              <a:ext cx="894600" cy="844920"/>
            </a:xfrm>
            <a:prstGeom prst="parallelogram">
              <a:avLst>
                <a:gd name="adj" fmla="val 5606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8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9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20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21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22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23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24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25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26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27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28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29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30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31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2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E83D-E737-4231-9F3B-F5F8381AE68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Impact"/>
              </a:rPr>
              <a:t>TEORÍA CLÁSICA DE LOS TESTS</a:t>
            </a:r>
            <a:br>
              <a:rPr sz="3200"/>
            </a:br>
            <a:r>
              <a:rPr b="0" lang="es-ES_tradnl" sz="3200" spc="-1" strike="noStrike">
                <a:solidFill>
                  <a:srgbClr val="ccffff"/>
                </a:solidFill>
                <a:latin typeface="Impact"/>
              </a:rPr>
              <a:t>Supuestos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O:    X = τ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uesto 1:    τ  = E (X),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consecuencia :   e = X – τ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1b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(e) = E(X) – τ = τ - τ = 0;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1b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σ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σ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τ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σ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Supuesto 2:  No existe correlación entre las puntuaciones verdaderas de los sujetos y sus respectivos errores de medida (al ser aleatorios no tienen que ver con el constructo que se mide).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λ = σ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τ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σ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ρ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τx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Supuesto 3: Los errores de medida de los sujetos en un test no correlacionan con los errores de esos sujetos en otro test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Dos tests son paralelos si:</a:t>
            </a:r>
            <a:r>
              <a:rPr b="0" lang="es-ES_tradnl" sz="1600" spc="-1" strike="noStrike">
                <a:solidFill>
                  <a:srgbClr val="ffffff"/>
                </a:solidFill>
                <a:latin typeface="Impact"/>
              </a:rPr>
              <a:t> 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ρ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= ρ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’τ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;    τ = τ’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;  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σ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=σ’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1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 bien si σ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( ei)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= σ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( ej)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 la τ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=τ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7T23:13:46Z</dcterms:created>
  <dc:creator>Sevilla</dc:creator>
  <dc:description/>
  <dc:language>en-US</dc:language>
  <cp:lastModifiedBy>Eduardo Garcia Jimenez</cp:lastModifiedBy>
  <cp:lastPrinted>1999-02-17T23:47:52Z</cp:lastPrinted>
  <dcterms:modified xsi:type="dcterms:W3CDTF">2011-03-14T19:53:07Z</dcterms:modified>
  <cp:revision>9</cp:revision>
  <dc:subject/>
  <dc:title>TEORÍA CLÁSICA DE LOS TESTS Supuestos</dc:title>
</cp:coreProperties>
</file>