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DC2-2434-44B8-AB85-6BF36647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6C2-1BE2-4D35-8874-809B655B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E8F-3CFC-4426-968F-0ED5DF1D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E9E-8B92-444E-8FA3-8C5F71E7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C82F-1BE7-4CF0-A0DA-A5E62784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47DA-D8B5-43A8-8A36-9F39ABBF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4003-BF24-4465-A91E-BA960978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60DB-A702-4765-9977-FA052B2A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53F1-EF0E-4208-9444-5BD609D3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1188-E0E4-4785-8A9F-E7F4A801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D20B-A7BE-46E7-970C-0CA5791B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A05-AFE4-4DB6-93B3-8CF06BA8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97F2-A7A6-4DE3-AD07-5DEB77A9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05EA-9945-4569-8DE5-08F6F2A7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7312-6D1C-453D-B443-0C18E8CA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0F81-7E43-4E3E-B30C-472ED968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8884-DEFC-4169-BA39-E65AE7B2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224-AE61-4E89-B25F-027CA4A1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457-16D1-4AA3-94AC-BAEF198F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F7D-57B8-40E3-BEC6-5BAA6BFB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85F-55CD-4923-8092-5EEC4AAF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8B13-0CA6-4D10-8982-470C4718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0C7-F525-4467-81C4-94A9288D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BC2-A712-4A2F-B2B4-AABAC6B7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B171-F6DB-47BC-8352-E18597C7321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FDEA-E0F0-4FE1-855A-3A659BCD0CF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ANÁLISIS DE ITE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Dificultad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   P3, P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3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porción de aciertos corrigiendo el az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3 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nativas * (aciertos/N)  - 1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nativas -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4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 existen omi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iertos 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nativas -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4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iertos + err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2556000" y="3068640"/>
            <a:ext cx="611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4356000" y="515772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2771640" y="5950080"/>
            <a:ext cx="39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Dificultad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   P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5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o existen omisiones, pero sí no alcanz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róne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iertos   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ernativas -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5=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  - No alcan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2124000" y="501336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356000" y="3962520"/>
            <a:ext cx="237672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Corrección del azar 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(dicotómicos)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47640" y="1915920"/>
            <a:ext cx="7772400" cy="494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rrore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C = aciertos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lternativas -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alternativas – 1) * (aciertos – erro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C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lterna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C =  aciertos – errores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3995640" y="2852640"/>
            <a:ext cx="237672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2556000" y="4581360"/>
            <a:ext cx="52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CuadroTexto 5"/>
          <p:cNvSpPr/>
          <p:nvPr/>
        </p:nvSpPr>
        <p:spPr>
          <a:xfrm>
            <a:off x="7236000" y="2276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n om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CuadroTexto 6"/>
          <p:cNvSpPr/>
          <p:nvPr/>
        </p:nvSpPr>
        <p:spPr>
          <a:xfrm>
            <a:off x="7524720" y="4653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n om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CuadroTexto 7"/>
          <p:cNvSpPr/>
          <p:nvPr/>
        </p:nvSpPr>
        <p:spPr>
          <a:xfrm>
            <a:off x="5580000" y="5661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 omisión, los no acertados no cuentan, no es necesario   responder a todos los items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Discriminación de ite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            Correlación ítem-total, biserial puntual (r de Pear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is:          Correlación ítem-total, biserial (no items multipun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rregida: Correlación ítem-total descontando del total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ntuación del item analiz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Xp - X           p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bp =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x             q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Xp - X         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b =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x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828800" y="4114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286000" y="4114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16002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3047760" y="41148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3276720" y="4114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3276720" y="4648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2971800" y="4876920"/>
            <a:ext cx="763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1676520" y="632448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3200400" y="63244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1905120" y="57150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2438280" y="57150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ceso de examen de los reactivos de una prueba para averiguar si se adecuan a las principales cualidades exigidas en una medició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mension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ia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lide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Indicadores de la calidad del ít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ficult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Varian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scrimin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productiv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nálisis de alternativas incorrec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erfil del item (CCI, COI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untuación del it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6684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odos los indicadores requieren las respuestas a los items para poder calcular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respuestas deben transformarse a una puntuación o valoración asignada a cada ítem según criterios prev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da formato de ítem y de respuesta va asociado a un estilo de puntuación caraterís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-27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Items de valoración dicotóm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porcionan una puntuación en forma de presencia/ausencia, acierto/error, afirmación/negación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cotómicas naturales y artifi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y sensibles a las distribuciones que se aparten de la proporción p=q=0,5 siendo aconsejable la obtención de varianza máxima en sus puntuacio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63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Items de valoración en escala gradua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ntuación en forma de escala ordinal asociada a la proximidad de la respuesta con el criterio de acierto, intensidad del atributo, nivel de concordancia, etc. establecido como crite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flexión sobre la jerarquía asignada y su representatividad en cuanto al atributo que está reflejan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632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Formatos de ítems y valor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68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ección múltipl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cotómicos: 0-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itómicos: de 4 a 10 categorías o gra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nario: 0-1;  ?  -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iadas:  0 – 1 – 2; 0 – 1 – ?;  (-1) – (0) – (+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ting scal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l semánt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calas Like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calas de adjetivos, gráficas, combi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bier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rdenamiento, comparación y emparejamient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Dificultad</a:t>
            </a:r>
            <a:br>
              <a:rPr sz="4000"/>
            </a:b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844640"/>
            <a:ext cx="842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Acierto/error y person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(se incluyen sujetos que aciertan, omiten, fallan y no alcanzan a responder el ite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items dicotóm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ier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1 =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items multipu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ma de Respue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1   =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3429000" y="42210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809880" y="60930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Dificultad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   P2</a:t>
            </a: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Actitud y  personalidad«SI-NO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items dicotómicos  (respuestas omitid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cier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2 =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responden 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(se exclyen omisiones y no alcanzan a responder a todos los item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items multipu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ma de repues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2   =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responden 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(se exclyen omisiones y no alcanzan a responder a todos los item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1979640" y="400536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2268360" y="602136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1T16:32:46Z</dcterms:created>
  <dc:creator>Sevilla</dc:creator>
  <dc:description/>
  <dc:language>en-US</dc:language>
  <cp:lastModifiedBy>Eduardo Garcia Jimenez</cp:lastModifiedBy>
  <cp:lastPrinted>2011-03-07T19:28:23Z</cp:lastPrinted>
  <dcterms:modified xsi:type="dcterms:W3CDTF">2011-03-07T19:39:22Z</dcterms:modified>
  <cp:revision>20</cp:revision>
  <dc:subject/>
  <dc:title>ANÁLISIS DE ITEMS</dc:title>
</cp:coreProperties>
</file>