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2CF-9872-4E66-BF34-5A0AE867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64B-4107-454B-BC37-849F0FE2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79D-12C4-49BD-9222-68D480B2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812-D588-4BC9-8E9E-678C87FF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F701-D4F9-4B7F-B042-14B563CB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E290-9933-469E-B3A8-862CB9D5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FFFD-EA24-474F-A1C9-537C74FF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24E9-44AD-44C1-BDFF-7FC5EDDC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C9EF-8A3B-49F3-A6D3-BC94C9F1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6B7E-F898-49FF-90C4-9AC4AFD7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9277-3E13-4189-9A2C-4832E02E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C81-F0E7-4226-A73A-FB310191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7441-DECD-46CE-87D1-A13F3FD9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2C3D-0A99-4E1B-866A-52E2FE07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D204-0960-45EC-8BDA-FF3296C3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F0BA-244B-4017-83F4-782203A0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8A4D-5DB7-4506-BC2C-42EDF2C7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EF3-3426-4E0C-95E7-EC64B40A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FC0-3EDF-4166-B5BE-E00764AA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0BB-663A-42DB-8638-CFB62D6A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3FE-0FAA-4A66-8256-2BBD77A5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3FC-B7D6-4113-8C8C-A7832F2C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941-A5D4-4853-9D0D-B726A359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5AC-94EF-4E5C-B533-1E0FE36D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6A67-3778-479C-9E8F-C8D4247D525F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6D25-5B25-476B-86E6-21B983431E8D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7"/>
          <p:cNvSpPr/>
          <p:nvPr/>
        </p:nvSpPr>
        <p:spPr>
          <a:xfrm>
            <a:off x="34920" y="3378240"/>
            <a:ext cx="1368360" cy="459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COMPARATIVO CAUS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611280" y="189000"/>
          <a:ext cx="7848360" cy="64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84836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Line 8"/>
          <p:cNvSpPr/>
          <p:nvPr/>
        </p:nvSpPr>
        <p:spPr>
          <a:xfrm flipH="1">
            <a:off x="1332000" y="350028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72360" y="46530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PREEXPERIMENT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768240" y="1341360"/>
            <a:ext cx="2305080" cy="64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9:36:15Z</dcterms:created>
  <dc:creator>..</dc:creator>
  <dc:description/>
  <dc:language>en-US</dc:language>
  <cp:lastModifiedBy>Windows Xp SP3 Relax Edition 2</cp:lastModifiedBy>
  <dcterms:modified xsi:type="dcterms:W3CDTF">2011-03-14T07:38:14Z</dcterms:modified>
  <cp:revision>410</cp:revision>
  <dc:subject/>
  <dc:title>Diapositiva 1</dc:title>
</cp:coreProperties>
</file>