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DB4-6840-4F98-943C-54B535F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F49-5E86-4523-A31F-E7E5E3A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180-D0E8-4079-BED8-567E02EA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EB0-EBD1-4F6E-A081-37DDC2AB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008E-38A2-4562-BED3-3AE257A5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CF2-EBA7-40B5-815F-24533671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57B7-EF0D-4C47-AD6C-BA5A240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95D0-5182-40D2-971A-D5C46426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FD0-52D4-4096-9568-77ADCED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532A-02B2-4C79-895E-B8A1791C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A00-0587-4C9D-90FC-B6A22A3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A47-4465-4B08-804E-DA765EF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CE0-5A38-4B97-B1B0-9B80DCAD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EC9-0CF2-4E67-83A2-F140CEA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C2D3-F882-4674-8079-6054F4C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030D-46E3-47AA-97F2-3BF3FA42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7D4F-EDF7-4F60-B542-6F372982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0C8-A3D3-4A73-85C7-6039F6F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126-F65E-4CE7-BF4E-321BC63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626-D913-4964-BABC-B439053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761-2F6E-4505-9E30-812FDD60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D53-0CC7-4BA6-918C-6C96836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03B-33D9-4742-AA48-C6C6B61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27E-E1A1-4847-9F3E-A9DA959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E0C-E577-461E-ADB9-1DE4B5F92C4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E73-6822-4B69-94A2-5B7825D5FB0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4360" y="1547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VALIDEZ, FIABILIDAD Y CARACTERÍSTICAS DE LOS ÍTE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158920" y="2492280"/>
            <a:ext cx="6775560" cy="41767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65160" y="4098960"/>
            <a:ext cx="2016000" cy="33732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VALIDE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46"/>
          <p:cNvSpPr/>
          <p:nvPr/>
        </p:nvSpPr>
        <p:spPr>
          <a:xfrm>
            <a:off x="0" y="238284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2627280" y="2819520"/>
            <a:ext cx="2376360" cy="873000"/>
            <a:chOff x="2627280" y="2819520"/>
            <a:chExt cx="2376360" cy="873000"/>
          </a:xfrm>
        </p:grpSpPr>
        <p:sp>
          <p:nvSpPr>
            <p:cNvPr id="100" name="Oval 16"/>
            <p:cNvSpPr/>
            <p:nvPr/>
          </p:nvSpPr>
          <p:spPr>
            <a:xfrm>
              <a:off x="2627280" y="281952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2700000" y="306684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NTENIDO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2657520" y="4172040"/>
            <a:ext cx="2376360" cy="873000"/>
            <a:chOff x="2657520" y="4172040"/>
            <a:chExt cx="2376360" cy="873000"/>
          </a:xfrm>
        </p:grpSpPr>
        <p:sp>
          <p:nvSpPr>
            <p:cNvPr id="103" name="Oval 20"/>
            <p:cNvSpPr/>
            <p:nvPr/>
          </p:nvSpPr>
          <p:spPr>
            <a:xfrm>
              <a:off x="2657520" y="41720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2730240" y="4419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NSTRUCTO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5" name="Line 27"/>
          <p:cNvSpPr/>
          <p:nvPr/>
        </p:nvSpPr>
        <p:spPr>
          <a:xfrm>
            <a:off x="3851280" y="5057640"/>
            <a:ext cx="0" cy="50328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3851280" y="3678120"/>
            <a:ext cx="0" cy="57636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2698920" y="5551560"/>
            <a:ext cx="2376360" cy="873000"/>
            <a:chOff x="2698920" y="5551560"/>
            <a:chExt cx="2376360" cy="873000"/>
          </a:xfrm>
        </p:grpSpPr>
        <p:sp>
          <p:nvSpPr>
            <p:cNvPr id="108" name="Oval 23"/>
            <p:cNvSpPr/>
            <p:nvPr/>
          </p:nvSpPr>
          <p:spPr>
            <a:xfrm>
              <a:off x="2698920" y="555156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771640" y="579888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TERIO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Rectangle 5"/>
          <p:cNvSpPr/>
          <p:nvPr/>
        </p:nvSpPr>
        <p:spPr>
          <a:xfrm>
            <a:off x="5148360" y="2924280"/>
            <a:ext cx="37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SIRVE PARA MEDIR AQUELLO PARA LO QUE SE DISEÑ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024520" y="3860640"/>
            <a:ext cx="38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HACE REFERENCIA A LA UTILIDAD DE LA PRUEBA O EL TEST PARA SATISFACER LAS CONSECUENCIAS QUE SE ESPERAN DE SU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983120" y="5346720"/>
            <a:ext cx="395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HACE REFERENCIA AL NIVEL DE CORRELACIÓN EXISTENTE ENTRE LA PUNTUACIÓN DEL TEST Y UN CRITERIO EXTERN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7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238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0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241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244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247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250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2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253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256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8" name="Text Box 32"/>
          <p:cNvSpPr/>
          <p:nvPr/>
        </p:nvSpPr>
        <p:spPr>
          <a:xfrm>
            <a:off x="6013440" y="5165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DISTINT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971640" y="2483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¿Cuál de los siguientes situaciones no suele asociarse a la investigación educativa desarrollada desde un enfoque tradicional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. Diseño de grupo único con postest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b. Diseño de grupo único con pretest y postest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c. Diseño de grupo control no equivalente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. Estudio de ca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264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6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267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270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273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5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276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8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279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1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282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4" name="Text Box 32"/>
          <p:cNvSpPr/>
          <p:nvPr/>
        </p:nvSpPr>
        <p:spPr>
          <a:xfrm>
            <a:off x="6013440" y="5165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DISTINT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691240" y="5492880"/>
            <a:ext cx="28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CORRECCIÓN GRAMATIC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971640" y="2483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i a la hora de calcular el tamaño muestral queremos reducir el nivel de error, el tamaño de la muestra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. aumentará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b. no tienen nada que ver un aspecto con el otro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c. la muestra viene determinada por el nivel de confianza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. disminuir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291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3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294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297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9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300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303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5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306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8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309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1" name="Text Box 32"/>
          <p:cNvSpPr/>
          <p:nvPr/>
        </p:nvSpPr>
        <p:spPr>
          <a:xfrm>
            <a:off x="6013440" y="5165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DISTINT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691240" y="5492880"/>
            <a:ext cx="28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CORRECCIÓN GRAMATIC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6012000" y="58532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ABSUR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971640" y="234720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Tomando como referencia una población de 12.456 alumnos, un nivel de confianza del 95% y un error del </a:t>
            </a:r>
            <a:r>
              <a:rPr b="0" lang="es-ES_tradnl" sz="1800" spc="-1" strike="noStrike" u="sng">
                <a:solidFill>
                  <a:srgbClr val="003366"/>
                </a:solidFill>
                <a:uFillTx/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3%, el tamaño de la muestra ascenderá 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. 10 sujetos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b. 983 sujetos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c. 12.450 sujetos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d. 893 sujet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8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319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322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4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325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7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328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331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334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337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Text Box 35"/>
          <p:cNvSpPr/>
          <p:nvPr/>
        </p:nvSpPr>
        <p:spPr>
          <a:xfrm>
            <a:off x="6013440" y="5165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DISTINT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Text Box 36"/>
          <p:cNvSpPr/>
          <p:nvPr/>
        </p:nvSpPr>
        <p:spPr>
          <a:xfrm>
            <a:off x="5691240" y="5492880"/>
            <a:ext cx="28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CORRECCIÓN GRAMATIC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Text Box 37"/>
          <p:cNvSpPr/>
          <p:nvPr/>
        </p:nvSpPr>
        <p:spPr>
          <a:xfrm>
            <a:off x="6012000" y="58532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ABSUR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508720" y="61959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 MAYOR EXTENS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347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9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350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353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356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359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362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365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5940360" y="5203800"/>
            <a:ext cx="2447640" cy="873000"/>
            <a:chOff x="5940360" y="5203800"/>
            <a:chExt cx="2447640" cy="873000"/>
          </a:xfrm>
        </p:grpSpPr>
        <p:sp>
          <p:nvSpPr>
            <p:cNvPr id="368" name="Oval 33"/>
            <p:cNvSpPr/>
            <p:nvPr/>
          </p:nvSpPr>
          <p:spPr>
            <a:xfrm>
              <a:off x="5970240" y="520380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940360" y="53560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FORMATO DE LAS RESPUESTAS.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0" name="Text Box 38"/>
          <p:cNvSpPr/>
          <p:nvPr/>
        </p:nvSpPr>
        <p:spPr>
          <a:xfrm>
            <a:off x="5796000" y="609120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ÚMERO DE ELEMENTOS EN EL EMPAREJAMIEN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375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378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381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384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387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390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2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393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940360" y="5203800"/>
            <a:ext cx="2447640" cy="873000"/>
            <a:chOff x="5940360" y="5203800"/>
            <a:chExt cx="2447640" cy="873000"/>
          </a:xfrm>
        </p:grpSpPr>
        <p:sp>
          <p:nvSpPr>
            <p:cNvPr id="396" name="Oval 33"/>
            <p:cNvSpPr/>
            <p:nvPr/>
          </p:nvSpPr>
          <p:spPr>
            <a:xfrm>
              <a:off x="5970240" y="520380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Text Box 34"/>
            <p:cNvSpPr/>
            <p:nvPr/>
          </p:nvSpPr>
          <p:spPr>
            <a:xfrm>
              <a:off x="5940360" y="53560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FORMATO DE LAS RESPUESTAS.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8" name="Group 35"/>
          <p:cNvGrpSpPr/>
          <p:nvPr/>
        </p:nvGrpSpPr>
        <p:grpSpPr>
          <a:xfrm>
            <a:off x="5952960" y="6012000"/>
            <a:ext cx="2447640" cy="657000"/>
            <a:chOff x="5952960" y="6012000"/>
            <a:chExt cx="2447640" cy="657000"/>
          </a:xfrm>
        </p:grpSpPr>
        <p:sp>
          <p:nvSpPr>
            <p:cNvPr id="399" name="Oval 36"/>
            <p:cNvSpPr/>
            <p:nvPr/>
          </p:nvSpPr>
          <p:spPr>
            <a:xfrm>
              <a:off x="5982840" y="6012000"/>
              <a:ext cx="2376720" cy="657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Text Box 37"/>
            <p:cNvSpPr/>
            <p:nvPr/>
          </p:nvSpPr>
          <p:spPr>
            <a:xfrm>
              <a:off x="5952960" y="612648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QUILIBRIO V/F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405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408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0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411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3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414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417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9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420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2" name="Group 29"/>
          <p:cNvGrpSpPr/>
          <p:nvPr/>
        </p:nvGrpSpPr>
        <p:grpSpPr>
          <a:xfrm>
            <a:off x="5940360" y="4322880"/>
            <a:ext cx="2447640" cy="873000"/>
            <a:chOff x="5940360" y="4322880"/>
            <a:chExt cx="2447640" cy="873000"/>
          </a:xfrm>
        </p:grpSpPr>
        <p:sp>
          <p:nvSpPr>
            <p:cNvPr id="423" name="Oval 30"/>
            <p:cNvSpPr/>
            <p:nvPr/>
          </p:nvSpPr>
          <p:spPr>
            <a:xfrm>
              <a:off x="5970240" y="432288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5940360" y="43876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DE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5" name="Group 32"/>
          <p:cNvGrpSpPr/>
          <p:nvPr/>
        </p:nvGrpSpPr>
        <p:grpSpPr>
          <a:xfrm>
            <a:off x="5940360" y="5203800"/>
            <a:ext cx="2447640" cy="873000"/>
            <a:chOff x="5940360" y="5203800"/>
            <a:chExt cx="2447640" cy="873000"/>
          </a:xfrm>
        </p:grpSpPr>
        <p:sp>
          <p:nvSpPr>
            <p:cNvPr id="426" name="Oval 33"/>
            <p:cNvSpPr/>
            <p:nvPr/>
          </p:nvSpPr>
          <p:spPr>
            <a:xfrm>
              <a:off x="5970240" y="520380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Text Box 34"/>
            <p:cNvSpPr/>
            <p:nvPr/>
          </p:nvSpPr>
          <p:spPr>
            <a:xfrm>
              <a:off x="5940360" y="535608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FORMATO DE LAS RESPUESTAS.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8" name="Group 35"/>
          <p:cNvGrpSpPr/>
          <p:nvPr/>
        </p:nvGrpSpPr>
        <p:grpSpPr>
          <a:xfrm>
            <a:off x="5952960" y="6012000"/>
            <a:ext cx="2447640" cy="657000"/>
            <a:chOff x="5952960" y="6012000"/>
            <a:chExt cx="2447640" cy="657000"/>
          </a:xfrm>
        </p:grpSpPr>
        <p:sp>
          <p:nvSpPr>
            <p:cNvPr id="429" name="Oval 36"/>
            <p:cNvSpPr/>
            <p:nvPr/>
          </p:nvSpPr>
          <p:spPr>
            <a:xfrm>
              <a:off x="5982840" y="6012000"/>
              <a:ext cx="2376720" cy="657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952960" y="612648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QUILIBRIO V/F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1" name="Group 41"/>
          <p:cNvGrpSpPr/>
          <p:nvPr/>
        </p:nvGrpSpPr>
        <p:grpSpPr>
          <a:xfrm>
            <a:off x="5356080" y="3108240"/>
            <a:ext cx="360360" cy="2808000"/>
            <a:chOff x="5356080" y="3108240"/>
            <a:chExt cx="360360" cy="2808000"/>
          </a:xfrm>
        </p:grpSpPr>
        <p:sp>
          <p:nvSpPr>
            <p:cNvPr id="432" name="Oval 39"/>
            <p:cNvSpPr/>
            <p:nvPr/>
          </p:nvSpPr>
          <p:spPr>
            <a:xfrm>
              <a:off x="5359320" y="3108240"/>
              <a:ext cx="357120" cy="2808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5356080" y="3484440"/>
              <a:ext cx="2746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UBICACIÓ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84360" y="1547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VALIDEZ, FIABILIDAD Y CARACTERÍSTICAS DE LOS ÍTE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158920" y="2492280"/>
            <a:ext cx="6775560" cy="41767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5160" y="4098960"/>
            <a:ext cx="2016000" cy="33732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IABILI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0" y="238284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2627280" y="2819520"/>
            <a:ext cx="2376360" cy="873000"/>
            <a:chOff x="2627280" y="2819520"/>
            <a:chExt cx="2376360" cy="873000"/>
          </a:xfrm>
        </p:grpSpPr>
        <p:sp>
          <p:nvSpPr>
            <p:cNvPr id="118" name="Oval 16"/>
            <p:cNvSpPr/>
            <p:nvPr/>
          </p:nvSpPr>
          <p:spPr>
            <a:xfrm>
              <a:off x="2627280" y="281952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2700000" y="306684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ESTABILIDAD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2657520" y="4172040"/>
            <a:ext cx="2376360" cy="873000"/>
            <a:chOff x="2657520" y="4172040"/>
            <a:chExt cx="2376360" cy="873000"/>
          </a:xfrm>
        </p:grpSpPr>
        <p:sp>
          <p:nvSpPr>
            <p:cNvPr id="121" name="Oval 20"/>
            <p:cNvSpPr/>
            <p:nvPr/>
          </p:nvSpPr>
          <p:spPr>
            <a:xfrm>
              <a:off x="2657520" y="41720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2730240" y="4419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NSISTENCIA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3851280" y="3678120"/>
            <a:ext cx="0" cy="57636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148360" y="3060720"/>
            <a:ext cx="37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DE LA PUNTUACIÓN ANTE DISTINTAS MEDICIO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024520" y="4224240"/>
            <a:ext cx="38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INTERNA DE LA PRUEBA. ALTA CORRELACIÓN ENTRE LOS ÍTEMS DE LA PRUEB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4360" y="1547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VALIDEZ, FIABILIDAD Y CARACTERÍSTICAS DE LOS ÍTE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158920" y="2492280"/>
            <a:ext cx="6775560" cy="41767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9360" y="4076640"/>
            <a:ext cx="213048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RACTERÍSTICAS DE LOS Í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0" y="238284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Oval 27"/>
          <p:cNvSpPr/>
          <p:nvPr/>
        </p:nvSpPr>
        <p:spPr>
          <a:xfrm>
            <a:off x="3780000" y="2997360"/>
            <a:ext cx="3671640" cy="3384360"/>
          </a:xfrm>
          <a:prstGeom prst="ellipse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4386240" y="2565360"/>
            <a:ext cx="2376360" cy="873000"/>
            <a:chOff x="4386240" y="2565360"/>
            <a:chExt cx="2376360" cy="873000"/>
          </a:xfrm>
        </p:grpSpPr>
        <p:sp>
          <p:nvSpPr>
            <p:cNvPr id="132" name="Oval 12"/>
            <p:cNvSpPr/>
            <p:nvPr/>
          </p:nvSpPr>
          <p:spPr>
            <a:xfrm>
              <a:off x="4386240" y="256536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4458960" y="281268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UNIDIMENSIONAL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2452680" y="4221000"/>
            <a:ext cx="2448000" cy="873360"/>
            <a:chOff x="2452680" y="4221000"/>
            <a:chExt cx="2448000" cy="873360"/>
          </a:xfrm>
        </p:grpSpPr>
        <p:sp>
          <p:nvSpPr>
            <p:cNvPr id="135" name="Oval 15"/>
            <p:cNvSpPr/>
            <p:nvPr/>
          </p:nvSpPr>
          <p:spPr>
            <a:xfrm>
              <a:off x="2482920" y="4221000"/>
              <a:ext cx="237636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2452680" y="44686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IFICULTAD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6227640" y="4221000"/>
            <a:ext cx="2376720" cy="873000"/>
            <a:chOff x="6227640" y="4221000"/>
            <a:chExt cx="2376720" cy="873000"/>
          </a:xfrm>
        </p:grpSpPr>
        <p:sp>
          <p:nvSpPr>
            <p:cNvPr id="138" name="Oval 19"/>
            <p:cNvSpPr/>
            <p:nvPr/>
          </p:nvSpPr>
          <p:spPr>
            <a:xfrm>
              <a:off x="6227640" y="422100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6300720" y="4468320"/>
              <a:ext cx="219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APACIDAD DE DISCRIMINACIÓ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0" name="Group 21"/>
          <p:cNvGrpSpPr/>
          <p:nvPr/>
        </p:nvGrpSpPr>
        <p:grpSpPr>
          <a:xfrm>
            <a:off x="5940360" y="5724360"/>
            <a:ext cx="2376720" cy="873000"/>
            <a:chOff x="5940360" y="5724360"/>
            <a:chExt cx="2376720" cy="873000"/>
          </a:xfrm>
        </p:grpSpPr>
        <p:sp>
          <p:nvSpPr>
            <p:cNvPr id="141" name="Oval 22"/>
            <p:cNvSpPr/>
            <p:nvPr/>
          </p:nvSpPr>
          <p:spPr>
            <a:xfrm>
              <a:off x="594036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23"/>
            <p:cNvSpPr/>
            <p:nvPr/>
          </p:nvSpPr>
          <p:spPr>
            <a:xfrm>
              <a:off x="6013440" y="5971680"/>
              <a:ext cx="21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PRODUCTIVIDAD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2700360" y="5734080"/>
            <a:ext cx="2734920" cy="873000"/>
            <a:chOff x="2700360" y="5734080"/>
            <a:chExt cx="2734920" cy="873000"/>
          </a:xfrm>
        </p:grpSpPr>
        <p:sp>
          <p:nvSpPr>
            <p:cNvPr id="144" name="Oval 25"/>
            <p:cNvSpPr/>
            <p:nvPr/>
          </p:nvSpPr>
          <p:spPr>
            <a:xfrm>
              <a:off x="2700360" y="5734080"/>
              <a:ext cx="27349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Text Box 26"/>
            <p:cNvSpPr/>
            <p:nvPr/>
          </p:nvSpPr>
          <p:spPr>
            <a:xfrm>
              <a:off x="2784240" y="5981400"/>
              <a:ext cx="252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APACIDAD DE LOS DISTRACTOR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39"/>
          <p:cNvSpPr/>
          <p:nvPr/>
        </p:nvSpPr>
        <p:spPr>
          <a:xfrm>
            <a:off x="4716360" y="41623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EN PERFIL DEL ÍTEM (CCI Y CO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151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6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157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160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5148360" y="2581200"/>
            <a:ext cx="367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¿Cuál de los siguientes diseños de investigación supone mayor grado de control de las variables?</a:t>
            </a:r>
            <a:br>
              <a:rPr sz="1400"/>
            </a:b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. Preexperimentales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.Cuasiexperimentales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. Experimental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5140440" y="4191120"/>
            <a:ext cx="367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¿A qué nos referimos si hablamos de experimental pretest-postest con grupo control?</a:t>
            </a:r>
            <a:br>
              <a:rPr sz="1400"/>
            </a:b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. A una metodología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. A un diseño de investigación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. A un enfoque de investig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168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171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174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6" name="Rectangle 23"/>
          <p:cNvSpPr/>
          <p:nvPr/>
        </p:nvSpPr>
        <p:spPr>
          <a:xfrm>
            <a:off x="5425920" y="314136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hace falta para que se produzca la solidificación del agua? 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5076720" y="45036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temperatura, en grados centígrados, debe darse para que se produzca la solidificación del agua? 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182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185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188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0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191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Rectangle 26"/>
          <p:cNvSpPr/>
          <p:nvPr/>
        </p:nvSpPr>
        <p:spPr>
          <a:xfrm>
            <a:off x="5156280" y="568116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 diseños experimentales siempre obtenemos un alto grado de validez inter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7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198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0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201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3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204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6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207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9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210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158920" y="2492280"/>
            <a:ext cx="6775560" cy="42451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36440" y="1940040"/>
            <a:ext cx="7500960" cy="33732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ABORACIÓN DE UNA PRUEBA OBJE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19240" y="3728880"/>
            <a:ext cx="1801800" cy="58068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5c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DACCIÓN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PREGUNT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2556000" y="2708280"/>
            <a:ext cx="2447640" cy="873000"/>
            <a:chOff x="2556000" y="2708280"/>
            <a:chExt cx="2447640" cy="873000"/>
          </a:xfrm>
        </p:grpSpPr>
        <p:sp>
          <p:nvSpPr>
            <p:cNvPr id="216" name="Oval 12"/>
            <p:cNvSpPr/>
            <p:nvPr/>
          </p:nvSpPr>
          <p:spPr>
            <a:xfrm>
              <a:off x="2585880" y="2708280"/>
              <a:ext cx="237600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2556000" y="2955600"/>
              <a:ext cx="24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ENUNCIADO IDÉNT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8" name="Group 14"/>
          <p:cNvGrpSpPr/>
          <p:nvPr/>
        </p:nvGrpSpPr>
        <p:grpSpPr>
          <a:xfrm>
            <a:off x="2556000" y="3708360"/>
            <a:ext cx="2447640" cy="873000"/>
            <a:chOff x="2556000" y="3708360"/>
            <a:chExt cx="2447640" cy="873000"/>
          </a:xfrm>
        </p:grpSpPr>
        <p:sp>
          <p:nvSpPr>
            <p:cNvPr id="219" name="Oval 15"/>
            <p:cNvSpPr/>
            <p:nvPr/>
          </p:nvSpPr>
          <p:spPr>
            <a:xfrm>
              <a:off x="2585880" y="3708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2556000" y="3860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INDEPENDIENT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2556000" y="4716360"/>
            <a:ext cx="2447640" cy="1132560"/>
            <a:chOff x="2556000" y="4716360"/>
            <a:chExt cx="2447640" cy="1132560"/>
          </a:xfrm>
        </p:grpSpPr>
        <p:sp>
          <p:nvSpPr>
            <p:cNvPr id="222" name="Oval 18"/>
            <p:cNvSpPr/>
            <p:nvPr/>
          </p:nvSpPr>
          <p:spPr>
            <a:xfrm>
              <a:off x="2585880" y="4716360"/>
              <a:ext cx="2376720" cy="87336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2556000" y="4781520"/>
              <a:ext cx="2447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DACCIÓN CORREC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4" name="Group 20"/>
          <p:cNvGrpSpPr/>
          <p:nvPr/>
        </p:nvGrpSpPr>
        <p:grpSpPr>
          <a:xfrm>
            <a:off x="2556000" y="5724360"/>
            <a:ext cx="2447640" cy="873000"/>
            <a:chOff x="2556000" y="5724360"/>
            <a:chExt cx="2447640" cy="873000"/>
          </a:xfrm>
        </p:grpSpPr>
        <p:sp>
          <p:nvSpPr>
            <p:cNvPr id="225" name="Oval 21"/>
            <p:cNvSpPr/>
            <p:nvPr/>
          </p:nvSpPr>
          <p:spPr>
            <a:xfrm>
              <a:off x="2585880" y="572436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2556000" y="587664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RESPUESTA ÚNICA, INEQUÍVOC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7" name="Group 23"/>
          <p:cNvGrpSpPr/>
          <p:nvPr/>
        </p:nvGrpSpPr>
        <p:grpSpPr>
          <a:xfrm>
            <a:off x="5940360" y="2530440"/>
            <a:ext cx="2448000" cy="873000"/>
            <a:chOff x="5940360" y="2530440"/>
            <a:chExt cx="2448000" cy="873000"/>
          </a:xfrm>
        </p:grpSpPr>
        <p:sp>
          <p:nvSpPr>
            <p:cNvPr id="228" name="Oval 24"/>
            <p:cNvSpPr/>
            <p:nvPr/>
          </p:nvSpPr>
          <p:spPr>
            <a:xfrm>
              <a:off x="5970600" y="2530440"/>
              <a:ext cx="237636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940360" y="27777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b2b2b2"/>
                  </a:solidFill>
                  <a:latin typeface="Arial"/>
                </a:rPr>
                <a:t>ITEMS CORTO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Group 26"/>
          <p:cNvGrpSpPr/>
          <p:nvPr/>
        </p:nvGrpSpPr>
        <p:grpSpPr>
          <a:xfrm>
            <a:off x="5940360" y="3424320"/>
            <a:ext cx="2447640" cy="873000"/>
            <a:chOff x="5940360" y="3424320"/>
            <a:chExt cx="2447640" cy="873000"/>
          </a:xfrm>
        </p:grpSpPr>
        <p:sp>
          <p:nvSpPr>
            <p:cNvPr id="231" name="Oval 27"/>
            <p:cNvSpPr/>
            <p:nvPr/>
          </p:nvSpPr>
          <p:spPr>
            <a:xfrm>
              <a:off x="5970240" y="3424320"/>
              <a:ext cx="2376720" cy="8730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  <a:effectLst>
              <a:outerShdw dist="17819" dir="2700000" blurRad="0" rotWithShape="0">
                <a:srgbClr val="3d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5940360" y="357660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NUNCIADO SIN PIS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3" name="Rectangle 32"/>
          <p:cNvSpPr/>
          <p:nvPr/>
        </p:nvSpPr>
        <p:spPr>
          <a:xfrm>
            <a:off x="5186520" y="4474440"/>
            <a:ext cx="393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A qué enfoque de investigación pertenecen los diseños que tratan de interpretar los fenómenos desde la perspectiva de quien los viv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2560"/>
                <a:tab algn="l" pos="8985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581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. Empírico-analítico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. Interpretativo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 Crí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9:36:15Z</dcterms:created>
  <dc:creator>..</dc:creator>
  <dc:description/>
  <dc:language>en-US</dc:language>
  <cp:lastModifiedBy>Windows Xp SP3 Relax Edition 2</cp:lastModifiedBy>
  <dcterms:modified xsi:type="dcterms:W3CDTF">2011-03-15T20:57:56Z</dcterms:modified>
  <cp:revision>381</cp:revision>
  <dc:subject/>
  <dc:title>Diapositiva 1</dc:title>
</cp:coreProperties>
</file>