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.WAV" ContentType="audio/x-wav"/>
  <Override PartName="/ppt/media/image1.wmf" ContentType="image/x-wmf"/>
  <Override PartName="/ppt/media/TECLA.WAV" ContentType="audio/x-wav"/>
  <Override PartName="/ppt/media/image2.wmf" ContentType="image/x-wmf"/>
  <Override PartName="/ppt/media/LASER.WAV" ContentType="audio/x-wav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8DB-80F8-4A4F-8D86-CE781382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6DA-EBFA-4173-B1F2-CEF31F60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0AA-9821-4C04-A28E-8FE26817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573-3718-449D-982A-526965E5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ACC7-487F-4C35-A552-0AA85190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CB34-5B49-4A76-8CC9-6F464E4D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13A2-FE53-45AE-9388-C95C6B3A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1754-152A-4946-867A-4059C6A3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D1B8-8311-4FC2-94DA-C181F1DB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27FC-72AC-4CD1-A82F-443ED660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51B3-BCC4-407F-8B99-12B45895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9BF-819F-44A1-A25E-B1639D69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5AA1-5D99-40AD-98E9-78553570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4AB7-07F7-4E06-B689-B2198705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A955-3FA9-4F4F-97E0-E97A1952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0376-0465-4852-AAF4-7A7388E0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3999-7433-4C19-810C-BC126E81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343-42D2-4EC3-A908-542036E2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566-106B-44F0-87D8-F9EF987E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F8B-75D0-4283-BFD6-88FDBE84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62C-6818-434A-A32D-F1142C49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A48-3750-48AD-B881-79949E11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5D3-5956-443A-9C6F-ED67827C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CBD-0AAC-46D7-AE33-4DFE5BFC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d"/>
            </a:gs>
            <a:gs pos="50000">
              <a:srgbClr val="008080"/>
            </a:gs>
            <a:gs pos="100000">
              <a:srgbClr val="00e3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e3dd"/>
              </a:gs>
              <a:gs pos="50000">
                <a:srgbClr val="00cc99"/>
              </a:gs>
              <a:gs pos="100000">
                <a:srgbClr val="00e3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e3dd"/>
              </a:gs>
              <a:gs pos="50000">
                <a:srgbClr val="008080"/>
              </a:gs>
              <a:gs pos="100000">
                <a:srgbClr val="00e3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e3dd"/>
              </a:gs>
              <a:gs pos="50000">
                <a:srgbClr val="008080"/>
              </a:gs>
              <a:gs pos="100000">
                <a:srgbClr val="00e3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e3dd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7831-9C64-44C8-8492-2290B5A4D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3dd"/>
            </a:gs>
            <a:gs pos="50000">
              <a:srgbClr val="008080"/>
            </a:gs>
            <a:gs pos="100000">
              <a:srgbClr val="00e3d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e3dd"/>
              </a:gs>
              <a:gs pos="50000">
                <a:srgbClr val="00cc99"/>
              </a:gs>
              <a:gs pos="100000">
                <a:srgbClr val="00e3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e3dd"/>
              </a:gs>
              <a:gs pos="50000">
                <a:srgbClr val="008080"/>
              </a:gs>
              <a:gs pos="100000">
                <a:srgbClr val="00e3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e3dd"/>
              </a:gs>
              <a:gs pos="50000">
                <a:srgbClr val="008080"/>
              </a:gs>
              <a:gs pos="100000">
                <a:srgbClr val="00e3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e3dd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e3dd"/>
              </a:gs>
              <a:gs pos="50000">
                <a:srgbClr val="00cc99"/>
              </a:gs>
              <a:gs pos="100000">
                <a:srgbClr val="00e3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e3dd"/>
              </a:gs>
              <a:gs pos="50000">
                <a:srgbClr val="008080"/>
              </a:gs>
              <a:gs pos="100000">
                <a:srgbClr val="00e3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e3dd"/>
              </a:gs>
              <a:gs pos="50000">
                <a:srgbClr val="008080"/>
              </a:gs>
              <a:gs pos="100000">
                <a:srgbClr val="00e3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e3dd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4F1E-7024-434D-BDFD-0C041BB74AD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ffcc"/>
                </a:solidFill>
                <a:latin typeface="Times New Roman"/>
              </a:rPr>
              <a:t>VALIDEZ</a:t>
            </a:r>
            <a:br>
              <a:rPr sz="3200"/>
            </a:br>
            <a:r>
              <a:rPr b="0" lang="es-ES_tradnl" sz="3200" spc="-1" strike="noStrike" u="sng">
                <a:solidFill>
                  <a:srgbClr val="66ffcc"/>
                </a:solidFill>
                <a:uFillTx/>
                <a:latin typeface="Times New Roman"/>
              </a:rPr>
              <a:t>Concepto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pone un juicio evalua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unifica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el grado en qu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undamentos teóricos y evidencias empíric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stienen l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decu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opiedad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la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nferenci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ctuacion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basadas en las puntuaciones de los tests u otros modelos de medida (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ssick, 1993: 13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refiere a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decuación, significación y utilidad de las inferenci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pecíficas hechas a partir de las puntuaciones de los tests... Es un concepto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unitari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siempre se refiere al grado en que la evidencia soporta las inferencias hechas desde las puntuaciones de los tests.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 validan las inferenci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ara propósitos especiales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 el test mism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.. Una validación ideal incluye varios tipos de evidencia, que comprende los tres tradicionales (contenido, constructo y criterio) ...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APA, AERA, 1985: p. 9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1" name="CLIC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a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ACETAS DE LA VALIDEZ DE UN TEST</a:t>
            </a:r>
            <a:br>
              <a:rPr sz="3200"/>
            </a:b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Messick, 1985:20)</a:t>
            </a:r>
            <a:endParaRPr b="0" lang="en-US" sz="18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468360" y="1989000"/>
          <a:ext cx="79200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7920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ROXIMACIONES A LA VALIDEZ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egorías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42840" y="1523880"/>
          <a:ext cx="905688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1523880"/>
                    <a:ext cx="90568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12:13:30Z</dcterms:created>
  <dc:creator>Sevilla</dc:creator>
  <dc:description/>
  <dc:language>en-US</dc:language>
  <cp:lastModifiedBy>Eduardo Garcia Jimenez</cp:lastModifiedBy>
  <dcterms:modified xsi:type="dcterms:W3CDTF">2011-01-28T10:58:17Z</dcterms:modified>
  <cp:revision>5</cp:revision>
  <dc:subject/>
  <dc:title>VALIDEZ Concepto</dc:title>
</cp:coreProperties>
</file>