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FF2-88A7-45A5-8536-7257EF7D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48F-0AE5-434A-98D8-6CBD1ED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108-43FD-4C8B-B2C3-84E5913D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933-548A-4E4A-97F8-DECACAF7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9AE7-662F-423F-A140-824FD6A7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9B5A-80CB-4430-81A9-35C333F3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DEA-15E3-49EB-B6D4-E686A7E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438-5782-44B6-9A5E-73468E2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C987-AF9C-43A9-B052-7C5F80F3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4A6-C9B9-4D4E-A193-BA19650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D87C-BEB4-4476-B146-D35317C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9C4-D6B5-4BED-A291-8C21666C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E296-1D0B-45CB-B3DE-1A72612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618C-7F99-46E5-8F24-6E1EEF0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A8A3-4B09-403C-B730-78184C75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A23-F90C-4EEB-93A2-D04BF881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77C9-5E62-4ECD-A9DE-9DF39376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71E-F841-4264-A10E-79DCA1AB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755-29C7-4452-BB2C-B78956DA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807-140D-4BFC-947C-2C59142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026-9A62-4275-9DEE-2EE9CFE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2D4-78C8-4C1A-88D2-8489E19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21F-996C-4863-9AC0-8D1F352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054-5D83-4F6D-B87B-36CEA00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8770-B95B-420A-A25E-19D179AF9D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28F-CFDE-44D7-B072-290ACC629592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FIABILIDAD: Aspectos básicos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os datos sobre fiabilidad deben estar presentes en el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nual 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 toda prueb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ben describirse las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estras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(variables personales, tamaño)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sobre la que se han obtenido los da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Junto a los datos debe incluirse la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fecha 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y el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lugar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de la obten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Al valor de la fiabilidad debe añadirse el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M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así como el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intervalo de confianza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en que oscila la puntuación verdad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os datos y resultados de los apartados anteriores deben presentarse en un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lenguaje asequible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FIABILIDAD: Aspectos básicos </a:t>
            </a: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ben añadirse los coeficientes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fa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y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dos mitades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como información común de referencia en todos los anális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 pruebas de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tipo clínico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un procedimiento obligatorio es el de Livingst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as pruebas de velocidad pueden producir estimaciones de r</a:t>
            </a:r>
            <a:r>
              <a:rPr b="0" lang="es-ES_tradnl" sz="2800" spc="-1" strike="noStrike" baseline="-25000">
                <a:solidFill>
                  <a:srgbClr val="eaeaea"/>
                </a:solidFill>
                <a:latin typeface="Times New Roman"/>
              </a:rPr>
              <a:t>xx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’ que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 sean coherentes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con los da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l coeficiente de fiabilidad debe entenderse como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una tendencia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del test en producir medidas estables, equivalentes o procedentes de un material homogéne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a fiabilidad de una prueba no asegura su </a:t>
            </a:r>
            <a:r>
              <a:rPr b="0" lang="es-ES_tradnl" sz="2800" spc="-1" strike="noStrike" u="sng">
                <a:solidFill>
                  <a:srgbClr val="eaeaea"/>
                </a:solidFill>
                <a:uFillTx/>
                <a:latin typeface="Times New Roman"/>
              </a:rPr>
              <a:t>validez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cc"/>
                </a:solidFill>
                <a:latin typeface="Times New Roman"/>
              </a:rPr>
              <a:t>Método de Livingston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7652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447920" y="1657440"/>
          <a:ext cx="749304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57440"/>
                    <a:ext cx="749304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1219320" y="4343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93939"/>
                </a:solidFill>
                <a:latin typeface="Times New Roman"/>
              </a:rPr>
              <a:t>Punt.</a:t>
            </a:r>
            <a:r>
              <a:rPr b="0" lang="es-ES_tradnl" sz="2800" spc="-1" strike="noStrike" baseline="-25000">
                <a:solidFill>
                  <a:srgbClr val="393939"/>
                </a:solidFill>
                <a:latin typeface="Times New Roman"/>
              </a:rPr>
              <a:t>criterio </a:t>
            </a:r>
            <a:r>
              <a:rPr b="0" lang="es-ES_tradnl" sz="2800" spc="-1" strike="noStrike">
                <a:solidFill>
                  <a:srgbClr val="393939"/>
                </a:solidFill>
                <a:latin typeface="Times New Roman"/>
              </a:rPr>
              <a:t>= puntuación en el criterio (suma de    aciertos) que separa a los aptos de los no apt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Factores que afectan a la fiabilidad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itud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A más items (de calidad) más fiabi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cción de Spearman- Brow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2590920" y="3429000"/>
          <a:ext cx="451800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429000"/>
                    <a:ext cx="451800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2298600" y="5257800"/>
          <a:ext cx="454680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8600" y="5257800"/>
                    <a:ext cx="454680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160020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o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cc"/>
                </a:solidFill>
                <a:latin typeface="Times New Roman"/>
              </a:rPr>
              <a:t>Factores que afectan a la fiabilidad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2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93939"/>
                </a:solidFill>
                <a:uFillTx/>
                <a:latin typeface="Times New Roman"/>
              </a:rPr>
              <a:t>Variabilidad y homogeneidad</a:t>
            </a:r>
            <a:r>
              <a:rPr b="0" lang="es-ES_tradnl" sz="2800" spc="-1" strike="noStrike">
                <a:solidFill>
                  <a:srgbClr val="39393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93939"/>
                </a:solidFill>
                <a:latin typeface="Times New Roman"/>
              </a:rPr>
              <a:t>La fiabilidad aumenta con la variabilidad, de modo que puede preverse su valor en función de la varianz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320920" y="3733920"/>
          <a:ext cx="450216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3733920"/>
                    <a:ext cx="45021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8:00:29Z</dcterms:created>
  <dc:creator>eduardo</dc:creator>
  <dc:description/>
  <dc:language>en-US</dc:language>
  <cp:lastModifiedBy>Eduardo Garcia Jimenez</cp:lastModifiedBy>
  <dcterms:modified xsi:type="dcterms:W3CDTF">2011-03-14T20:18:39Z</dcterms:modified>
  <cp:revision>9</cp:revision>
  <dc:subject/>
  <dc:title>FIABILIDAD: Aspectos básicos (1)</dc:title>
</cp:coreProperties>
</file>