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FFA3-811C-442C-B61C-FCA6E25B1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8DFC-3C7C-49BF-80FC-C0CBC02D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7F6A-F5FC-4571-BEA3-362A2BD0B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8684-02D5-4CB4-AD26-05A6396F2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BE9A-48C5-4009-B7C2-BC4873F8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442E-769C-4700-A4A5-2E4C8F29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16FC-DDD8-45F7-971D-86913FE1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2447-D6B5-4652-AD2B-B8A50217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BDB0-8C3B-4391-9265-D767CC7A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8722-A5DC-4C90-9DE9-8FCFC76C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5F42-531E-4E9D-A16D-2BE95859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B573-45A6-4229-A3BB-CADDFCC9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C04A-4A25-4366-A8D0-BA06EC36BC21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7"/>
          <p:cNvSpPr/>
          <p:nvPr/>
        </p:nvSpPr>
        <p:spPr>
          <a:xfrm>
            <a:off x="34920" y="3378240"/>
            <a:ext cx="1368360" cy="459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Arial"/>
              </a:rPr>
              <a:t>COMPARATIVO CAUSAL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89" name="Object 3"/>
          <p:cNvGraphicFramePr/>
          <p:nvPr/>
        </p:nvGraphicFramePr>
        <p:xfrm>
          <a:off x="611280" y="189000"/>
          <a:ext cx="7848360" cy="64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89000"/>
                    <a:ext cx="7848360" cy="64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Line 8"/>
          <p:cNvSpPr/>
          <p:nvPr/>
        </p:nvSpPr>
        <p:spPr>
          <a:xfrm flipH="1">
            <a:off x="1332000" y="3500280"/>
            <a:ext cx="2872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6372360" y="465300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Arial"/>
              </a:rPr>
              <a:t>PREEXPERIMENTAL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3348000" y="1341360"/>
            <a:ext cx="5111640" cy="647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611280" y="1341360"/>
            <a:ext cx="2584440" cy="64764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7T09:36:15Z</dcterms:created>
  <dc:creator>..</dc:creator>
  <dc:description/>
  <dc:language>en-US</dc:language>
  <cp:lastModifiedBy>Windows Xp SP3 Relax Edition 2</cp:lastModifiedBy>
  <dcterms:modified xsi:type="dcterms:W3CDTF">2011-05-16T08:56:54Z</dcterms:modified>
  <cp:revision>411</cp:revision>
  <dc:subject/>
  <dc:title>Diapositiva 1</dc:title>
</cp:coreProperties>
</file>